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B5A-E633-481F-B629-0B5D8C0F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888-57E0-40E7-809F-2CB287CA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6C8-C32F-40ED-9756-B8F2958C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AF0-B124-4C10-A767-9A15C1BD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18F-BB87-4D9B-93C8-52A9E253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AEA-525A-4F52-90E1-D130AF36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C08-94DA-4A21-B516-804C7AA2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0AA-A89E-4FDA-A14D-9B76166B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6BF-74CB-41CF-B8ED-E15DD6E5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9EA-D143-4316-A174-2374FB3F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58D-C6E0-48B2-B1AF-E1137199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002-50BA-4F77-9F93-56CAC62E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9D24-AEB9-42D4-B1A6-69D9C915E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549360"/>
            <a:ext cx="4408560" cy="24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W.A.L.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2920" y="3068640"/>
            <a:ext cx="73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Rockwell Extra Bold"/>
              </a:rPr>
              <a:t>Use the language of prob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Rockwell Extra Bold"/>
              </a:rPr>
              <a:t>To express probability as a 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tencil"/>
              </a:rPr>
              <a:t>What is the probability of the following events happening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68360" y="3429000"/>
            <a:ext cx="82296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9640" y="2565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snowing tomor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24000" y="350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winning the lottery this week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95280" y="4581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watching T.V ton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95280" y="5516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being your 3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irthday tomor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19051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tencil"/>
              </a:rPr>
              <a:t>Can you think of any events which are equally likely to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tencil"/>
              </a:rPr>
              <a:t>How about…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toss a coin you have an equal chance of getting a head or a ta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baby is born it has an equal chance of being a boy or a gir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roll a dice you have an equal chance of getting the number 1, 2, 3, 4, 5 or 6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in"/>
          <p:cNvPicPr/>
          <p:nvPr/>
        </p:nvPicPr>
        <p:blipFill>
          <a:blip r:embed="rId1"/>
          <a:stretch/>
        </p:blipFill>
        <p:spPr>
          <a:xfrm>
            <a:off x="7596360" y="1989000"/>
            <a:ext cx="838080" cy="82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PE02287_"/>
          <p:cNvPicPr/>
          <p:nvPr/>
        </p:nvPicPr>
        <p:blipFill>
          <a:blip r:embed="rId2"/>
          <a:stretch/>
        </p:blipFill>
        <p:spPr>
          <a:xfrm>
            <a:off x="6156360" y="3573360"/>
            <a:ext cx="1333440" cy="1022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dice"/>
          <p:cNvPicPr/>
          <p:nvPr/>
        </p:nvPicPr>
        <p:blipFill>
          <a:blip r:embed="rId3"/>
          <a:stretch/>
        </p:blipFill>
        <p:spPr>
          <a:xfrm>
            <a:off x="4191120" y="56386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2050920" y="333360"/>
            <a:ext cx="4392720" cy="11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Ta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11280" y="177336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your book draw a circle with a radius of 5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a protractor to divide the circle into 6 equal s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a ruler to join the sections together where they meet the edge of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ub out the remaining circle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should have a spinn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6156360" y="4581360"/>
            <a:ext cx="201600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7164360" y="4581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6443280" y="4869000"/>
            <a:ext cx="151308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 flipH="1" flipV="1">
            <a:off x="6156360" y="5157360"/>
            <a:ext cx="1944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 flipV="1">
            <a:off x="6227640" y="4581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6227640" y="5157720"/>
            <a:ext cx="21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6443640" y="6021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7093080" y="4581360"/>
            <a:ext cx="863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7956720" y="4941720"/>
            <a:ext cx="144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H="1">
            <a:off x="7164360" y="5734080"/>
            <a:ext cx="93672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 rot="20821200">
            <a:off x="3492360" y="5660640"/>
            <a:ext cx="2303640" cy="576360"/>
          </a:xfrm>
          <a:prstGeom prst="rightArrow">
            <a:avLst>
              <a:gd name="adj1" fmla="val 50000"/>
              <a:gd name="adj2" fmla="val 999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24000" y="404640"/>
            <a:ext cx="8424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w write the numbers 1, 2 or 3 in the sections of your sp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rite 5 statements about your spinner that show that you can use the language of probability or express probability as a 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11280" y="386064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Rockwell Extra Bold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Rockwell Extra Bold"/>
              </a:rPr>
              <a:t>Swap books with your partner.  Write a  comment about how well you think they’ve met today’s learning objective.  Explain why you think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611280" y="333360"/>
            <a:ext cx="4408560" cy="24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W.A.L.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619280" y="2421000"/>
            <a:ext cx="73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Rockwell Extra Bold"/>
              </a:rPr>
              <a:t>Use the language of prob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ckwell Extra Bol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Rockwell Extra Bold"/>
              </a:rPr>
              <a:t>To express probability as a f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5:21:50Z</dcterms:created>
  <dc:creator>Simon Bacon</dc:creator>
  <dc:description/>
  <dc:language>en-US</dc:language>
  <cp:lastModifiedBy>HELEN</cp:lastModifiedBy>
  <dcterms:modified xsi:type="dcterms:W3CDTF">2016-10-28T22:55:23Z</dcterms:modified>
  <cp:revision>4</cp:revision>
  <dc:subject/>
  <dc:title>Slide 1</dc:title>
</cp:coreProperties>
</file>